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3.png" ContentType="image/png"/>
  <Override PartName="/ppt/media/image36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972036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D7565F-54A3-462F-B39F-29AF05289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nilla_software" TargetMode="External"/><Relationship Id="rId2" Type="http://schemas.openxmlformats.org/officeDocument/2006/relationships/hyperlink" Target="http://en.wikipedia.org/wiki/Add-on" TargetMode="External"/><Relationship Id="rId3" Type="http://schemas.openxmlformats.org/officeDocument/2006/relationships/slide" Target="../slides/slide14.xml"/><Relationship Id="rId4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with bookmarks: they are static; you can’t see them on other computers; you can’t easily share them with others; not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tags = keywords =  categ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: 1) list of my book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for each one, I’ve listed some tags- can use these to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If I’ve created a network, I can click here to see all of their bookmar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can see who else saved this item- how can we use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s: Over 100 million bogs, 6,500 postings a day  I follow 46 b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THE OLD WAY- YOU GO OUT TO FIND NEW BLOGS OR 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WAY- THEY COME TO YOU.  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SS (also Atom, XML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feeds (or subscriptions) are aggregated in one place- can scan them the same way we read the news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s – basic use of internet twofol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uses of the medium altered how the medium functioned – in 2004, the term Web 2.0 was coined by Tim O’Reilley to describe this new way of using the internet  (also called “social medi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 wiki invites all users to edit any page or to create new pages within the wiki Web site, using only a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lain-vanilla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Web browser without any extra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dd-on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iki promotes meaningful topic associations between different pages by making page link creation almost intuitively easy and showing whether an intended target page exists or not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 wiki is not a carefully crafted site for casual visitors. Instead it seeks to involve the visitor in an ongoing process of creation and collaboration that constantly changes the Web site landscap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5, the Journal Nature found that, for science articles, Wikipedia was almost as accurate as Britannica.  Why- communities of interest grow up around topics and they tend to be self-poli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requires time and diligence- like reading a news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le of content comm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e of creating and posting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book? Blogs? Podcasts? Wikipedia? YouTube? Flickr? Google Groups? Second Lif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SOCIAL (also called “social media” or “the social web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ABOUT TH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PERSONALIZED- designed to respond to my needs &amp;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1.0 – Webmaster is in control of the information and the experience; web as place to store information-focus for user is “find and acces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2.0- focus is on participation- user is empowered- engaged in a process of co-cre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types of tools- social media: focus on relationships (even associated with content creation), personalized productivity tools (RSS, podcasts, soc bookmarking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 Users:  18-29- 92%; 30-49- 85%; 65+- 3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ed- synergy between computer, TV, phone, iPod, P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fo- as of April, 2008- there are at leas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5,719,1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websites (Netcraft report) “Most of this month's growth of 3.1 million sites is seen in the US, with Google's Blogger service alone adding 1.1 million extra sites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 now- Pew teen reports dec 2007- teens are no longer emailing replaced by social networking, im’ing and texting- im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a voice- we expect to be listened to  (example- web-based reviews of products and servi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tore, organize and share the information we find on the internet today? (bookmarks, email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hare information with our colleagues? E-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we want to put a document in two different file fol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we want others to have access to our documents (at their leis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find new information? (google search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riteria do we use to discover new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FA2-7B3F-4323-A565-7483AD23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2C0-240C-4D38-831C-F5314483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F60-1A07-4E73-A73D-BA5A66B7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7C8-22C6-43C2-876C-87D67F81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9D6-F672-43FE-B41D-D663C39E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DF6-66DE-401C-8CFF-A9F211E1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301-6C71-41B8-993D-1238602C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FA4-2959-4B06-A8DB-3FBC956A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199-DAAB-4A33-9689-F2154FDD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73D-6562-48CE-B7FD-5F080EC0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DAC-C24B-4E84-8444-F0043293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A05-4ACB-4B41-A2BD-6CDEC934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0484-D3A3-442D-A47B-CEABB839B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5000" t="0" r="0" b="0"/>
          <a:stretch/>
        </p:blipFill>
        <p:spPr>
          <a:xfrm>
            <a:off x="-533520" y="0"/>
            <a:ext cx="9753840" cy="6854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175248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The New Internet 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the Classroom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03400" y="150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4280" y="4191120"/>
            <a:ext cx="43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Cool Tools For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372440" y="1409760"/>
            <a:ext cx="138420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91520" y="3100320"/>
            <a:ext cx="1376280" cy="152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129440" y="538200"/>
            <a:ext cx="161928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7315200" y="5715000"/>
            <a:ext cx="1495440" cy="763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7377120" y="4753080"/>
            <a:ext cx="1362240" cy="836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 flipV="1">
            <a:off x="4647960" y="2742840"/>
            <a:ext cx="533160" cy="685800"/>
          </a:xfrm>
          <a:prstGeom prst="line">
            <a:avLst/>
          </a:prstGeom>
          <a:ln w="127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7560" y="204840"/>
            <a:ext cx="25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cial Book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1523880" y="914400"/>
            <a:ext cx="4762800" cy="828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1486080" y="2085840"/>
            <a:ext cx="3466800" cy="657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1066680" y="3886200"/>
            <a:ext cx="5562720" cy="1851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 flipH="1" flipV="1">
            <a:off x="5181480" y="1752120"/>
            <a:ext cx="533520" cy="685800"/>
          </a:xfrm>
          <a:prstGeom prst="line">
            <a:avLst/>
          </a:prstGeom>
          <a:ln w="127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521" t="0" r="1521" b="0"/>
          <a:stretch/>
        </p:blipFill>
        <p:spPr>
          <a:xfrm>
            <a:off x="0" y="1371600"/>
            <a:ext cx="9144000" cy="4454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7560" y="76320"/>
            <a:ext cx="25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cial Book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61200" y="8380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cious.com/pliffgrie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76520" y="281952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010280" y="2590920"/>
            <a:ext cx="1752840" cy="637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638680" y="1635120"/>
            <a:ext cx="1676520" cy="644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248520" y="5105520"/>
            <a:ext cx="2590560" cy="693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1752480" y="4343400"/>
            <a:ext cx="1614600" cy="727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1447920" y="5715000"/>
            <a:ext cx="4647960" cy="665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2133720" y="1371600"/>
            <a:ext cx="274788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4724280" y="3200400"/>
            <a:ext cx="838440" cy="828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10080" y="4038480"/>
            <a:ext cx="838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3733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562720" y="2895480"/>
            <a:ext cx="1523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114800" y="4038480"/>
            <a:ext cx="9144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352680" y="38862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57800" y="22860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572000" y="20570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89548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562360" y="373392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281952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333760" y="228600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05740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42900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352680" y="380952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191120" y="4038120"/>
            <a:ext cx="9144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486040" y="403812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73840" y="137160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"/>
              </a:rPr>
              <a:t>R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6553080" y="3733920"/>
            <a:ext cx="2057400" cy="868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90720" y="152280"/>
            <a:ext cx="50292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ductivity and Professional Lear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Organizational Tools- Feed Aggreg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6248520" y="533520"/>
            <a:ext cx="236196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45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457200"/>
            <a:ext cx="49528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ductivity and Professional Lear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onal Tools- staying organ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52480" y="2286000"/>
            <a:ext cx="3353040" cy="155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657600" y="4218120"/>
            <a:ext cx="402912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41040" y="1364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0" r="3416" b="0"/>
          <a:stretch/>
        </p:blipFill>
        <p:spPr>
          <a:xfrm>
            <a:off x="6858000" y="2354400"/>
            <a:ext cx="2208240" cy="1455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858000" y="4229280"/>
            <a:ext cx="1438200" cy="1104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rcRect l="0" t="0" r="9320" b="0"/>
          <a:stretch/>
        </p:blipFill>
        <p:spPr>
          <a:xfrm>
            <a:off x="6324480" y="457200"/>
            <a:ext cx="2462400" cy="102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66680" y="3581280"/>
            <a:ext cx="571500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rebuchet MS"/>
              </a:rPr>
              <a:t>User </a:t>
            </a:r>
            <a:r>
              <a:rPr b="0" lang="en-US" sz="2000" spc="-1" strike="noStrike">
                <a:solidFill>
                  <a:srgbClr val="008000"/>
                </a:solidFill>
                <a:latin typeface="Trebuchet MS"/>
              </a:rPr>
              <a:t>- modified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rebuchet MS"/>
              </a:rPr>
              <a:t>A communal workplac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rebuchet MS"/>
              </a:rPr>
              <a:t>collaborate on projects or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rebuchet MS"/>
              </a:rPr>
              <a:t>store and sh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rebuchet MS"/>
              </a:rPr>
              <a:t>store and share administrative do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2286000" y="304920"/>
            <a:ext cx="3438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128040" y="580536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je-cooltool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0" t="0" r="13035" b="0"/>
          <a:stretch/>
        </p:blipFill>
        <p:spPr>
          <a:xfrm>
            <a:off x="0" y="0"/>
            <a:ext cx="9239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95280" y="228600"/>
            <a:ext cx="430380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ols for Creating Materi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Tools for creating and editing graphics and audio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028960" cy="743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172200" y="533520"/>
            <a:ext cx="1990800" cy="1019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943600" y="3733920"/>
            <a:ext cx="25239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96920" y="289080"/>
            <a:ext cx="362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ools for Creating Materi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72200" y="38088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00800" y="1905120"/>
            <a:ext cx="2133720" cy="842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057400" y="54100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48% of internet users have been to video-sharing sites such as YouTube and the daily traffic to such sites on a typical day has doubled in the past yea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52640" y="1182600"/>
            <a:ext cx="35197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rebuchet MS"/>
              </a:rPr>
              <a:t>Content is Soci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rebuchet MS"/>
              </a:rPr>
              <a:t>Ta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rebuchet MS"/>
              </a:rPr>
              <a:t>User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rebuchet MS"/>
              </a:rPr>
              <a:t>Content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943600" y="2895480"/>
            <a:ext cx="2909880" cy="746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743200" y="4267080"/>
            <a:ext cx="3057480" cy="733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629400" y="4114800"/>
            <a:ext cx="19144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71600" y="380880"/>
            <a:ext cx="32767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ools For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tools that engage the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867280" y="1305000"/>
            <a:ext cx="261000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943600" y="2514600"/>
            <a:ext cx="2600280" cy="1049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848200" y="4357800"/>
            <a:ext cx="283860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880360" y="6172200"/>
            <a:ext cx="390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graphs taken from Flickr and stock.xch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66880" y="762120"/>
            <a:ext cx="6477120" cy="48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ur  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 become familiar with Web 2.0 &amp; why it mat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r the Jewish edu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 learn how to use a few bas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 learn where to find mo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 take away resources that you ca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2184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27360" y="925560"/>
            <a:ext cx="474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are we?- A Quick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s we t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u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3880" y="1752480"/>
            <a:ext cx="66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“…</a:t>
            </a: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perceived second generation of web-based communities and hosted services — such as social networking sites, wikis, etc. — which facilitate collaboration and sharing between users.”  </a:t>
            </a: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0" i="1" lang="en-US" sz="2000" spc="-1" strike="noStrike">
                <a:solidFill>
                  <a:srgbClr val="ff9900"/>
                </a:solidFill>
                <a:latin typeface="Trebuchet MS"/>
              </a:rPr>
              <a:t>(wikipedia.com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85040" y="3886200"/>
            <a:ext cx="3320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Web 2.0 is collabo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content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commu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convers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colle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6094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eb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8800" y="944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Web 1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Web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1760400"/>
            <a:ext cx="7086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Web as information 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Web as participation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Read-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User pays att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User has a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Medium influences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User influence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lit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Democ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00760" y="534816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1.0 was Commerce; Web 2.0 is Peop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ss Mayfield, President, Social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7920" y="2666880"/>
            <a:ext cx="719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3% of teens are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% of online teens creat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% of online teens have a social networking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% of online teens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00200" y="8380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should this be important for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0720" y="1522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Bas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9389" r="0" b="0"/>
          <a:stretch/>
        </p:blipFill>
        <p:spPr>
          <a:xfrm>
            <a:off x="304920" y="1371600"/>
            <a:ext cx="2747880" cy="441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343400" y="1387440"/>
            <a:ext cx="3886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ocial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k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eed Aggregators/R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ocial Book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Conten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d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irtual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47920" y="420840"/>
            <a:ext cx="73911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use these tools in Jewish edu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vity and professional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tools for lesson creation and resource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Tools for learning- interactive, collaborative, eng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3352680"/>
            <a:ext cx="328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earn new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teract and collaborate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monstrate new skills or new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8862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934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90720" y="228600"/>
            <a:ext cx="502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ductivity and Professional Lear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cial Book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173664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Information is the lifeblood of ou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1120" y="5257080"/>
            <a:ext cx="451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-mail is where knowledge goes to di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Bill French, April 22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90720"/>
            <a:ext cx="2828880" cy="4800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43160" y="2711520"/>
            <a:ext cx="48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rebuchet MS"/>
              </a:rPr>
              <a:t>How do we access, store, organize, retrieve and share inform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930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rebuchet MS"/>
              </a:rPr>
              <a:t>How do we share information with our colleagu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3:45:21Z</dcterms:created>
  <dc:creator>BJE</dc:creator>
  <dc:description/>
  <dc:language>en-US</dc:language>
  <cp:lastModifiedBy>Phil Liff-Grieff</cp:lastModifiedBy>
  <dcterms:modified xsi:type="dcterms:W3CDTF">2009-01-18T06:58:10Z</dcterms:modified>
  <cp:revision>16</cp:revision>
  <dc:subject/>
  <dc:title>Slide 1</dc:title>
</cp:coreProperties>
</file>